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DC748-75A6-4187-992E-77670727E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A7424-DEA2-43F2-9A85-E75EA7002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DE43B-6657-4BB7-97D5-48B20398F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2BE08-C107-40D4-BCDB-68BF56751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13807-7345-4281-B666-C00801625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6E690-7009-4C5F-B620-B683CFC07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FE3F4-B054-4024-9493-D5E261DEE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FF320-CF7B-4FD1-820E-9E353FAA5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328E2-A9DB-40B8-99CB-26663C32A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6C813-AAF6-47F0-92AE-F869D8B66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89379-56A4-4F94-898D-BE103F944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0E1A5-E18C-4597-86EA-7CE13DD76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18444-2B7F-49FC-8B89-DBE1E6861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6430F-77C1-4E80-82F0-64ABD80E2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99D8D-F5A7-4681-9953-96B2BC51B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02884-A3BE-475B-ACD8-BF97A6DEF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40F23-2AED-4EF7-829C-B0F5B77DB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83934-6DAB-462A-B53A-E830F0682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8B8EB-EB2A-45D7-8EDD-7A5718154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65069-20CD-4CEF-B6FF-D946558BF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4DBE1-2F25-47E9-BDCC-5CBDE905E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7A200-96C2-4F8C-BEAC-BAE4C274E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6A74F-A365-409A-97CB-C674DB561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B103A-6353-4271-88E4-13BABD3CF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B8804-23F9-40F9-BD12-41E32901C2CA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895480"/>
            <a:ext cx="85928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4124160"/>
            <a:ext cx="767700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85500-BB09-4B95-BB9D-D7A0D695D9D4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9120" y="2418840"/>
            <a:ext cx="85932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제 </a:t>
            </a:r>
            <a:r>
              <a:rPr b="0" lang="en-US" sz="4400" spc="-1" strike="noStrike">
                <a:solidFill>
                  <a:srgbClr val="a3007c"/>
                </a:solidFill>
                <a:latin typeface="굴림"/>
                <a:ea typeface="굴림"/>
              </a:rPr>
              <a:t>1</a:t>
            </a: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장 특수교육학의 </a:t>
            </a:r>
            <a:br>
              <a:rPr sz="4400"/>
            </a:b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개요와 발전과제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11000" y="4362480"/>
            <a:ext cx="7677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66560" y="1339920"/>
            <a:ext cx="8226720" cy="517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이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의 목표와 목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의 대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시각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청각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신지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지체부자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서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언어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학습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 대상자 출현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특수교육의 개념과 과정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특수교육 기관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조기 특수교육 기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학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학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학습 도움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기숙제 학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병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가정 및 복지시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특수교육 과정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아동 찾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선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사정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(assess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개별화 교육계획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(Individualized Education Plan: IE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배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교수 학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수행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형성 및 총괄 평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서양의 특수교육 역사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고대와 중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장애인에 대한 편견의 시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근세 초기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장애인의 보호와 교육의 시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말 –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특수아를 위한 학교 교육의 성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청각장애교육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계 최초의 농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프랑스 파리 농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176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독일의 세계 최초의 공립 농학교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77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영국의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Braidwood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가 농교육에 기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미국의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Gallaudet: 181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에 미국에 최초의 농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시각장애교육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계 최초의 시각장애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1784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파리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영국에는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79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독일에는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0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정신지체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Itard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Seguin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의 공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 Seguin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이 미국에서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Howe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협력하여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4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에 정신지체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체부자유 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1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후반 정형외과학의 발달과 관련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; 1832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독일에서 지체부자유 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특수교육의 질적 변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한국의  특수교육 역사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삼국시대에서 조선시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빈민규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고려 숙종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복업과 궁중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조선시대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명통사에서 경문 집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개화기 및 일제시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유길준의 서유견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서양식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근대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특수교육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R. S. Hall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여사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894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제생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912)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교육과 수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박두성의 훈맹정음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929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35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이창호 목사에 의한 평양 광명 맹아학교 설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맹인 손용수는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38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에 원산 맹학교 설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해방이후부터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7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대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47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서울맹아학교 교장 윤백원에 의해 한글 지문자 제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49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특수학교 설립과 특수학급 설치에 관한 규정 공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77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특수교육진흥법 제정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1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회 개정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8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대 이후의 특수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특수교육의 최근 동향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정상화 원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교수의 개별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조기교육과 전환교육의 강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부모의 권익 강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중도 중복장애 교육의 강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a3007c"/>
                </a:solidFill>
                <a:latin typeface="Arial"/>
                <a:ea typeface="굴림"/>
              </a:rPr>
              <a:t>질문할 시간입니다</a:t>
            </a:r>
            <a:r>
              <a:rPr b="0" lang="en-US" sz="4000" spc="-1" strike="noStrike">
                <a:solidFill>
                  <a:srgbClr val="a3007c"/>
                </a:solidFill>
                <a:latin typeface="Arial"/>
                <a:ea typeface="굴림"/>
              </a:rPr>
              <a:t>.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2049480" y="1195560"/>
            <a:ext cx="561672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8T03:17:31Z</dcterms:created>
  <dc:creator/>
  <dc:description/>
  <dc:language>en-US</dc:language>
  <cp:lastModifiedBy>f</cp:lastModifiedBy>
  <dcterms:modified xsi:type="dcterms:W3CDTF">2007-04-05T02:32:51Z</dcterms:modified>
  <cp:revision>10</cp:revision>
  <dc:subject/>
  <dc:title>제 1장 교육과정과 교수학습</dc:title>
</cp:coreProperties>
</file>